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2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664325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78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885600" y="743400"/>
            <a:ext cx="4891680" cy="36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66360" y="4647600"/>
            <a:ext cx="5330520" cy="44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88596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88480" y="4646160"/>
            <a:ext cx="4884840" cy="440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이제까지 설명드린 페이스 모델링과 퍼포먼스 캡쳐의 과정을 통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실제 배우의 표정과 컴퓨터 모델의 표정이 머슬 파라메터를 통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연결되었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이 슬라이드에서는 실제 배우의 연기와 이를 다시 애니메이션으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재현한 결과를 동시에 보여드리겠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8596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88480" y="4646160"/>
            <a:ext cx="4884840" cy="440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익스프레션 디스플레이스먼트 매핑은 애니메이터가 원하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위치에 키 익스프레션을 삽입할 수 있도록 해 줍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원래의 익스프레션은 주어진 키 익스프레션의 조건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만족할 수 있도록 자연스럽게 변형됩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먼저 캡쳐된 데이터를 재생하는 것을 보시겠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이 데이터의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와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103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프레임에 위와 같은 키 익스프레션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삽입하였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그 결과를 보시겠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8596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88480" y="4646160"/>
            <a:ext cx="4884840" cy="440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익스프레션 리타게팅은 얻어진 표정 데이터를 다른 캐릭터에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적용시키는 기술입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앞에서도 설명드린 바와 같이 머슬을 기반으로 한 저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시스템에서는 리타게팅이 아주 쉽게 해결되었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먼저 원래의 연기를 보시겠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그 다음은 이를 희준군에서 적용한 결과입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애니메이션 데이터는 그림과 같은 카툰 라이크 캐릭터에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적용될 수 있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결과를 보시겠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885960" y="733320"/>
            <a:ext cx="4892400" cy="3668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88480" y="4646160"/>
            <a:ext cx="4884840" cy="440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익스프레션 리타게팅은 얻어진 표정 데이터를 다른 캐릭터에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적용시키는 기술입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앞에서도 설명드린 바와 같이 머슬을 기반으로 한 저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시스템에서는 리타게팅이 아주 쉽게 해결되었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먼저 원래의 연기를 보시겠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그 다음은 이를 희준군에서 적용한 결과입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애니메이션 데이터는 그림과 같은 카툰 라이크 캐릭터에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적용될 수 있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결과를 보시겠습니다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A3B-B00E-4DA0-885E-80BF7236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500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E21-E6AB-4570-8396-A9D54B26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500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6500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D8B-10EC-41B5-831F-CF00732E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142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142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500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6500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6500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E28-CB07-4CE5-B36E-4309A98A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B46-88B3-4626-8ED5-36857B9D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9B7A-B969-4BB5-ACB5-29AB9AF5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AA3A-9F3D-485A-A6A0-08AE497E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0607-FB75-4ECB-B77D-3307CF6E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1BB9-1233-4CC9-AED6-49462B67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6D52-1EE0-42E1-BA7D-27682BE3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6500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BD48-BB19-4F68-8C9E-5552750A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3DD-6646-4C4A-9326-0E9A2691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16200" y="36500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311A-D618-4480-A1BF-8DAF4BA5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6500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6A6E-C485-4790-8A43-0CA556E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6500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7065-0919-4DA8-927B-1A72893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6500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16200" y="36500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392D-AF25-49FC-AB72-49C4FF1D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520" y="1142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9160" y="11426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6500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520" y="36500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9160" y="36500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1962-C7C7-410B-87C3-1FF79EFE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544-8093-4E71-8B29-EC28DFA8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E24-9F5B-4AF6-82A1-A14DB53C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FF8F-E0F2-4BC1-A1D1-7C8D915A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7BA8-128F-403F-89CF-04D5BFDF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500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8170-455B-44EC-A629-37D713C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6500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1BA-799F-4090-AF64-3001ED12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144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1426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500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AD5-E91D-4FD5-B45F-84FE6290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83B768-8ED4-4928-85F9-1496E411819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914400"/>
            <a:ext cx="8381880" cy="0"/>
          </a:xfrm>
          <a:prstGeom prst="line">
            <a:avLst/>
          </a:prstGeom>
          <a:ln w="507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172200"/>
            <a:ext cx="8381880" cy="0"/>
          </a:xfrm>
          <a:prstGeom prst="line">
            <a:avLst/>
          </a:prstGeom>
          <a:ln w="507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105160" y="6248520"/>
            <a:ext cx="34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돋움"/>
              </a:rPr>
              <a:t>SNU Human Animation Ce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돋움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돋움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돋움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7625F9E-B913-408D-A186-3866A35EF20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돋움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14400"/>
            <a:ext cx="8381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40120" y="624852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1800" spc="-1" strike="noStrike">
                <a:solidFill>
                  <a:srgbClr val="ffffff"/>
                </a:solidFill>
                <a:latin typeface="Arial"/>
                <a:ea typeface="돋움"/>
              </a:rPr>
              <a:t>서울대학교 휴먼애니메이션연구단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Modeling and Ani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of Game Charac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350532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Prof. Hyeong-Seok 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Seoul National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Human Animation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ko@graphics.snu.ac.k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휴애연로고2" descr=""/>
          <p:cNvPicPr/>
          <p:nvPr/>
        </p:nvPicPr>
        <p:blipFill>
          <a:blip r:embed="rId1"/>
          <a:stretch/>
        </p:blipFill>
        <p:spPr>
          <a:xfrm>
            <a:off x="7772400" y="5257800"/>
            <a:ext cx="82404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ontent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ing of Game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tion of Game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s in Network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4000" spc="-1" strike="noStrike">
                <a:solidFill>
                  <a:srgbClr val="ffff00"/>
                </a:solidFill>
                <a:latin typeface="Arial"/>
              </a:rPr>
              <a:t>Requisites in Character Modelling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al use of polyg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on the target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able visual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texture mapping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ulated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odeling Procedur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6248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lan the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Draw them in 2D im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Build 3D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mesh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e texture im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Animate the 3D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Find out flaws and mod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xample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jane_wire_front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8" name="jane_wire_right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29" name="jane_color_front" descr=""/>
          <p:cNvPicPr/>
          <p:nvPr/>
        </p:nvPicPr>
        <p:blipFill>
          <a:blip r:embed="rId3"/>
          <a:stretch/>
        </p:blipFill>
        <p:spPr>
          <a:xfrm>
            <a:off x="762120" y="38862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30" name="jane_color_right" descr=""/>
          <p:cNvPicPr/>
          <p:nvPr/>
        </p:nvPicPr>
        <p:blipFill>
          <a:blip r:embed="rId4"/>
          <a:stretch/>
        </p:blipFill>
        <p:spPr>
          <a:xfrm>
            <a:off x="457200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xamples (Cont.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2" name="Img5_AvitL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6483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xamples (Cont.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sshot36" descr=""/>
          <p:cNvPicPr/>
          <p:nvPr/>
        </p:nvPicPr>
        <p:blipFill>
          <a:blip r:embed="rId1"/>
          <a:srcRect l="24444" t="0" r="26668" b="0"/>
          <a:stretch/>
        </p:blipFill>
        <p:spPr>
          <a:xfrm>
            <a:off x="609480" y="1752480"/>
            <a:ext cx="1676520" cy="2960640"/>
          </a:xfrm>
          <a:prstGeom prst="rect">
            <a:avLst/>
          </a:prstGeom>
          <a:ln w="0">
            <a:noFill/>
          </a:ln>
        </p:spPr>
      </p:pic>
      <p:pic>
        <p:nvPicPr>
          <p:cNvPr id="135" name="sshot37" descr=""/>
          <p:cNvPicPr/>
          <p:nvPr/>
        </p:nvPicPr>
        <p:blipFill>
          <a:blip r:embed="rId2"/>
          <a:srcRect l="27269" t="2596" r="24997" b="0"/>
          <a:stretch/>
        </p:blipFill>
        <p:spPr>
          <a:xfrm>
            <a:off x="6629400" y="1828800"/>
            <a:ext cx="1663560" cy="2971800"/>
          </a:xfrm>
          <a:prstGeom prst="rect">
            <a:avLst/>
          </a:prstGeom>
          <a:ln w="0">
            <a:noFill/>
          </a:ln>
        </p:spPr>
      </p:pic>
      <p:pic>
        <p:nvPicPr>
          <p:cNvPr id="136" name="sshot38" descr=""/>
          <p:cNvPicPr/>
          <p:nvPr/>
        </p:nvPicPr>
        <p:blipFill>
          <a:blip r:embed="rId3"/>
          <a:srcRect l="24447" t="0" r="26665" b="0"/>
          <a:stretch/>
        </p:blipFill>
        <p:spPr>
          <a:xfrm>
            <a:off x="2590920" y="1752480"/>
            <a:ext cx="1676160" cy="3008520"/>
          </a:xfrm>
          <a:prstGeom prst="rect">
            <a:avLst/>
          </a:prstGeom>
          <a:ln w="0">
            <a:noFill/>
          </a:ln>
        </p:spPr>
      </p:pic>
      <p:pic>
        <p:nvPicPr>
          <p:cNvPr id="137" name="sshot39" descr=""/>
          <p:cNvPicPr/>
          <p:nvPr/>
        </p:nvPicPr>
        <p:blipFill>
          <a:blip r:embed="rId4"/>
          <a:srcRect l="25535" t="-464" r="27664" b="0"/>
          <a:stretch/>
        </p:blipFill>
        <p:spPr>
          <a:xfrm>
            <a:off x="4572000" y="1752480"/>
            <a:ext cx="1676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Modeling Tool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Widely used tools for 3D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3D Studio Max (Kineti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SoftImage (Microsof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Lightw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The models need to be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Arial"/>
              </a:rPr>
              <a:t>converted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to be visualized by the 3D core of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nimation of Character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gs to be anim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dy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al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ure and polygon (special effec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n Exampl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086680" y="280044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43440" y="2800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texture" descr=""/>
          <p:cNvPicPr/>
          <p:nvPr/>
        </p:nvPicPr>
        <p:blipFill>
          <a:blip r:embed="rId1"/>
          <a:stretch/>
        </p:blipFill>
        <p:spPr>
          <a:xfrm>
            <a:off x="2590920" y="1600200"/>
            <a:ext cx="377496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nimation of Body Motion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Motion capture is most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Captured data should be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Arial"/>
              </a:rPr>
              <a:t>retarget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to cover the geometric difference between real human and 3D modeled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to produce a slightly different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Motion blending and tran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Use of Characters in Gam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65534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Represent the Player (Avata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bient Charac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4000" spc="-1" strike="noStrike">
                <a:solidFill>
                  <a:srgbClr val="ffff00"/>
                </a:solidFill>
                <a:latin typeface="Arial"/>
              </a:rPr>
              <a:t>Motion Retargetting (Motivation)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4572000" cy="2286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4000" spc="-1" strike="noStrike">
                <a:solidFill>
                  <a:srgbClr val="ffff00"/>
                </a:solidFill>
                <a:latin typeface="Arial"/>
              </a:rPr>
              <a:t>Motion Retargetting Exampl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Other Example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nimation of Body Motion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Motion capture is most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Captured data should be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Arial"/>
              </a:rPr>
              <a:t>retarget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to cover the geometric difference between real human and 3D modeled charac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to produce a slightly different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Motion blending and tran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Facial Animation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First build all possible facial expressions before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capturing or parameteri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Regenerate facial expressions while playing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restoration from captured data or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Reproduction of Performance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88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ko-KR" sz="4000" spc="-1" strike="noStrike">
                <a:solidFill>
                  <a:srgbClr val="ffff00"/>
                </a:solidFill>
                <a:latin typeface="Arial"/>
              </a:rPr>
              <a:t>Expression Retargetting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2" name="3" descr=""/>
          <p:cNvPicPr/>
          <p:nvPr/>
        </p:nvPicPr>
        <p:blipFill>
          <a:blip r:embed="rId1"/>
          <a:stretch/>
        </p:blipFill>
        <p:spPr>
          <a:xfrm>
            <a:off x="3962520" y="2057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4" descr=""/>
          <p:cNvPicPr/>
          <p:nvPr/>
        </p:nvPicPr>
        <p:blipFill>
          <a:blip r:embed="rId2"/>
          <a:stretch/>
        </p:blipFill>
        <p:spPr>
          <a:xfrm>
            <a:off x="3962520" y="38098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037400" y="3352680"/>
            <a:ext cx="11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me 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1080" y="510552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ame 1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3657600"/>
            <a:ext cx="533160" cy="0"/>
          </a:xfrm>
          <a:prstGeom prst="line">
            <a:avLst/>
          </a:prstGeom>
          <a:ln cap="sq"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cap="sq" w="507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8600" y="2057400"/>
            <a:ext cx="2895480" cy="2857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019920" y="2057400"/>
            <a:ext cx="2895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xpression Retargeting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1" name="99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1971720" cy="2057400"/>
          </a:xfrm>
          <a:prstGeom prst="rect">
            <a:avLst/>
          </a:prstGeom>
          <a:ln w="0">
            <a:noFill/>
          </a:ln>
        </p:spPr>
      </p:pic>
      <p:pic>
        <p:nvPicPr>
          <p:cNvPr id="172" name="77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2057400" cy="2085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334120" y="2057400"/>
            <a:ext cx="2895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Expression Retargeting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71880" y="1809720"/>
            <a:ext cx="4800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Animation of Special Effect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ure Sequencing (e.g. fi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9720" y="114300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to Simulate clothes, fire, smoke, hair,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4952880"/>
            <a:ext cx="2986200" cy="1233720"/>
          </a:xfrm>
          <a:custGeom>
            <a:avLst/>
            <a:gdLst/>
            <a:ahLst/>
            <a:rect l="l" t="t" r="r" b="b"/>
            <a:pathLst>
              <a:path w="1881" h="777">
                <a:moveTo>
                  <a:pt x="0" y="9"/>
                </a:moveTo>
                <a:lnTo>
                  <a:pt x="213" y="681"/>
                </a:lnTo>
                <a:lnTo>
                  <a:pt x="309" y="201"/>
                </a:lnTo>
                <a:lnTo>
                  <a:pt x="501" y="777"/>
                </a:lnTo>
                <a:lnTo>
                  <a:pt x="645" y="201"/>
                </a:lnTo>
                <a:lnTo>
                  <a:pt x="837" y="633"/>
                </a:lnTo>
                <a:lnTo>
                  <a:pt x="981" y="105"/>
                </a:lnTo>
                <a:lnTo>
                  <a:pt x="1221" y="633"/>
                </a:lnTo>
                <a:cubicBezTo>
                  <a:pt x="1285" y="457"/>
                  <a:pt x="1413" y="105"/>
                  <a:pt x="1413" y="105"/>
                </a:cubicBezTo>
                <a:lnTo>
                  <a:pt x="1653" y="681"/>
                </a:lnTo>
                <a:lnTo>
                  <a:pt x="1881" y="0"/>
                </a:lnTo>
                <a:lnTo>
                  <a:pt x="0" y="9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25780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5800" y="1981080"/>
            <a:ext cx="80773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Deformation or color replacement in texture map (e.g. cloth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388620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Deformation of vertices in polygons based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돋움"/>
              </a:rPr>
              <a:t>si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physics (e.g. hair, ski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3D Game Needs 3D Character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nd is from 2D to 3D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a 3D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ene is 3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1749"/>
              </a:spcAft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 is 3D (Arbitr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D Character is Essential in 3D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It Looks O.K. in Game…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6" name="scrn_vf31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87" name="scrn_vf33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haracters in Network Games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ic model should reside at local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differences from the generic model are sent at the initial 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displacements from the neutral position are 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abstract data is sent; the details are reconstructed at local mach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ff0033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reckon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914400"/>
            <a:ext cx="68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Reducing Traffic is Extra Concern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Summary…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s in Developing 3D G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 3D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ting 3D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3149"/>
              </a:spcAft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s in Network 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-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 qua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441972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3D Characters in Gam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Virtua Fighter 3 (SEGA, 1996, Arcade m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scrn_vf31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99" name="scrn_vf33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3D Characters in Gam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5486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ke 3 (id-software, 1999, PC platfor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469880" y="100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6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3D Characters in Gam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5333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A 2000 (EA sports, 1999, PC platfor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sshot06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3733920" cy="2800080"/>
          </a:xfrm>
          <a:prstGeom prst="rect">
            <a:avLst/>
          </a:prstGeom>
          <a:ln w="0">
            <a:noFill/>
          </a:ln>
        </p:spPr>
      </p:pic>
      <p:pic>
        <p:nvPicPr>
          <p:cNvPr id="107" name="fifa2k_27" descr=""/>
          <p:cNvPicPr/>
          <p:nvPr/>
        </p:nvPicPr>
        <p:blipFill>
          <a:blip r:embed="rId2"/>
          <a:stretch/>
        </p:blipFill>
        <p:spPr>
          <a:xfrm>
            <a:off x="4648320" y="1676520"/>
            <a:ext cx="373356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3D is Much Harder than 2D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D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efined motion / tran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23880" y="3885840"/>
            <a:ext cx="4800600" cy="228960"/>
            <a:chOff x="1523880" y="3885840"/>
            <a:chExt cx="4800600" cy="228960"/>
          </a:xfrm>
        </p:grpSpPr>
        <p:sp>
          <p:nvSpPr>
            <p:cNvPr id="111" name=""/>
            <p:cNvSpPr/>
            <p:nvPr/>
          </p:nvSpPr>
          <p:spPr>
            <a:xfrm>
              <a:off x="1523880" y="3886200"/>
              <a:ext cx="4800600" cy="228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523880" y="3885840"/>
              <a:ext cx="4800600" cy="228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762120" y="3048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in 3D G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3733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돋움"/>
              </a:rPr>
              <a:t>difficulty increases from 2 to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2670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돋움"/>
              </a:rPr>
              <a:t>difficulty increases to a different 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Things to Consider in 3D Gam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Increased Motion D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needs infinite amount of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200"/>
              </a:spcBef>
              <a:spcAft>
                <a:spcPts val="2401"/>
              </a:spcAft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Motion should be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Motion Retarge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to other models / to other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effective way to get infinite/accurate motion from limited motion s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b1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Things to Consider in 3D Game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Interaction with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characters to env / env to charac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Capturing the Motion of Animal, Robot, Imaginative Cr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All the above should be done in Real-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All the state-of-the-art SW/HW techs are Invol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4T00:29:04Z</dcterms:created>
  <dc:creator>고형석</dc:creator>
  <dc:description/>
  <dc:language>en-US</dc:language>
  <cp:lastModifiedBy>고형석</cp:lastModifiedBy>
  <cp:lastPrinted>1999-10-13T08:56:57Z</cp:lastPrinted>
  <dcterms:modified xsi:type="dcterms:W3CDTF">2000-03-02T02:30:44Z</dcterms:modified>
  <cp:revision>190</cp:revision>
  <dc:subject/>
  <dc:title>Digital Actor</dc:title>
</cp:coreProperties>
</file>